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7BBD-2418-420D-9C7B-395F8AE7B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BE21-AECB-49D6-8676-13F9A8315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79B-FF27-4912-A4AA-16719F0A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79A6-0BCE-414E-BB16-E711A950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C5C-5619-4E6D-B6EA-814637F6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F0DF-346B-4085-82D6-A27A976F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A32-F2E8-42D6-A2B3-D11B3EEA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CB72-B170-4F4D-B614-12FE29AA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FB55-A7FE-4501-832A-A6C57459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0D57-A67F-4594-A057-9985E0C7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47D-3994-4647-BA1D-446601D2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E6DC-8E46-42A7-9A5D-F2C2036D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D0E5-E8C1-4A25-BB5C-407D7510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15AB-D524-41B0-B09A-E011CED8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6746-0D69-473B-9130-198457827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ysha Tu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ysha T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ysha Turan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ysha Tura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ysha Tur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505320"/>
            <a:ext cx="2133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, me llamo Aysha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Yo vivo en Astoria. Yo tengo años catorce. Yo tengo dos hermanos y también uno hermana. Yo estoy calmado y fe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54100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Sea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ir a la cuidad contigo                                                                        Ay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438280"/>
            <a:ext cx="5486400" cy="7621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días Aysha </a:t>
            </a:r>
            <a:r>
              <a:rPr b="0" lang="en-US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yo estoy muy energia,¿ tu quiéres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ir a la cuidad?                                              Sea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Dónde están mis amig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4:43:53Z</dcterms:created>
  <dc:creator>FriscoISD</dc:creator>
  <dc:description/>
  <dc:language>en-US</dc:language>
  <cp:lastModifiedBy>NYCDOE</cp:lastModifiedBy>
  <dcterms:modified xsi:type="dcterms:W3CDTF">2012-12-03T15:01:44Z</dcterms:modified>
  <cp:revision>102</cp:revision>
  <dc:subject/>
  <dc:title>Profile</dc:title>
</cp:coreProperties>
</file>